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1E80-7FED-4938-8247-F66AB9CBF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7C9E-3E58-42AB-A226-F62E6947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18F0-2825-42E9-96A4-43AE92871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DD53-9B1B-4509-AD3C-F8B4C4C68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716F-5CC1-4B9C-8F1B-423B7DA5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A0AC-51E8-424D-9321-4365D3C4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3DCA-901D-4F27-8A66-E815213E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727B-52B4-4AC4-9871-C1C89AD2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2392-A64A-4126-9CA2-F0CF5A0C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3AE9-A410-4CAF-AE09-A29F7598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380F-F2B1-44D0-BDCA-B0C84B31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48C3-55CD-4040-A63F-17FC4BA3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1EBE-9C21-4A14-99A6-3EFC3F391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Something for the ma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14:57:39Z</dcterms:created>
  <dc:creator>cxoffice-XP</dc:creator>
  <dc:description/>
  <dc:language>en-US</dc:language>
  <cp:lastModifiedBy>cxoffice-XP</cp:lastModifiedBy>
  <dcterms:modified xsi:type="dcterms:W3CDTF">2006-11-10T14:58:15Z</dcterms:modified>
  <cp:revision>1</cp:revision>
  <dc:subject/>
  <dc:title>Do Something for the macro</dc:title>
</cp:coreProperties>
</file>