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90B6-AA23-48BF-971B-25EC4B268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A960-FF41-4AA2-BAAB-1C28E917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9550-5B66-40F6-AAED-EB61FBD39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DE67-DA9A-40BD-8567-CCDE15B41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4B3D-0797-4146-96BC-042C36D4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862A-2487-4A62-BDC9-6B1D8B2E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6C55-7981-4383-99C8-53A05188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9836-95DE-4CE4-900F-40EC01AA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C361-B614-4129-8015-2CE494CD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86A3-0CAF-4D0A-883D-511B3BF6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79CD-10EB-4DC6-B12E-4D48EF4E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D40D-29E7-4AE9-830B-D8BBD684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3DCA18-D8EC-4CA6-B911-5D77856497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290709-F656-4E32-813F-D19302A835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yslideshare is working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@prabhu-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2:01:07Z</dcterms:created>
  <dc:creator>Prabhu</dc:creator>
  <dc:description/>
  <dc:language>en-US</dc:language>
  <cp:lastModifiedBy>Prabhu</cp:lastModifiedBy>
  <dcterms:modified xsi:type="dcterms:W3CDTF">2008-05-30T02:02:00Z</dcterms:modified>
  <cp:revision>1</cp:revision>
  <dc:subject/>
  <dc:title>Pyslideshare is working!</dc:title>
</cp:coreProperties>
</file>