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C319-D7B6-4063-9F99-BFDA3FB74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66AE-7BC7-4914-95D7-F63E0983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AE88-2822-4F85-A487-BBC81F03B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6A59-DBB4-4C68-A222-BF794E86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9D61-2100-4A5B-A47F-13761B2C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889B-8FDC-4B58-8AC4-E6BF9B84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3359-6646-4452-953A-1B89D74A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2DC1-33AB-4D68-BC76-90A97CE5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98B8-2D1C-456C-8D77-D6E0876B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6F5D-8E3C-45E4-8580-2CF56D5B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67CA-474A-4FC8-A561-20214372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9719-DC50-4FB7-A9BE-AF74D65B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E09012-54F2-435B-8D78-6E906A5A6E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6A44EC-FD3B-4865-8A7D-C031BA5ACB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yslideshare is working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@prabhu-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02:01:07Z</dcterms:created>
  <dc:creator>Prabhu</dc:creator>
  <dc:description/>
  <dc:language>en-US</dc:language>
  <cp:lastModifiedBy>Prabhu</cp:lastModifiedBy>
  <dcterms:modified xsi:type="dcterms:W3CDTF">2008-05-30T02:02:00Z</dcterms:modified>
  <cp:revision>1</cp:revision>
  <dc:subject/>
  <dc:title>Pyslideshare is working!</dc:title>
</cp:coreProperties>
</file>