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DF4-9F2D-4EBB-B922-90F949AD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4B9-A25E-453D-943C-96649761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3CF-D6FF-4D6B-A4DA-3EA988BA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3FD-803E-407A-91B4-2DCB4F29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1A4-E54E-4074-AE2F-08E30FA7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B44-1BD9-477E-B473-EDEAB5E9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181-5492-4E38-B31D-BF0244B2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253-C2EF-4FDE-A088-B9016AF0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718-A947-4206-969B-A93152EB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83D-13D2-4505-B5BB-5B9218FB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C2CF-680F-4506-900B-D8C7A837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1E7-2443-427E-83A6-02CAF543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0AE7-2A1E-4D4E-95BF-BB73F4F589DB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lehtoan\My Documents\MapperPresentation\bkg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7200" spc="-1" strike="noStrike">
                <a:solidFill>
                  <a:srgbClr val="000000"/>
                </a:solidFill>
                <a:latin typeface="Calibri"/>
              </a:rPr>
              <a:t>QtMapper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lehtoan\My Documents\MapperPresentation\bkg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QtMap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tMapper is a gps navigation application that can be used with Maemo based dev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tMapper is implemented with Qt library. It can be easily ported for  devices which have the Qt and gps capabi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ture featu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o FreeRunner(OpenMoko)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ice navi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lehtoan\My Documents\MapperPresentation\bkg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QtMap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Qt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[ pronounced cute] is a cross-platform application framework. Using Qt, you can develop applications and user interfaces once, and deploy them across many desktop and embedded operating systems without rewriting the source code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 http://trolltech.com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lehtoan\My Documents\MapperPresentation\bkg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QtMap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vigation current 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s download from OpenStreetM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 Of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ps support for the N810 internal and external bluetooth G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lehtoan\My Documents\MapperPresentation\bkg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alibri"/>
              </a:rPr>
              <a:t>QtM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6" descr="route1.png"/>
          <p:cNvPicPr/>
          <p:nvPr/>
        </p:nvPicPr>
        <p:blipFill>
          <a:blip r:embed="rId2"/>
          <a:stretch/>
        </p:blipFill>
        <p:spPr>
          <a:xfrm>
            <a:off x="3575160" y="1584360"/>
            <a:ext cx="5111640" cy="3230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3008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You can add your own points of interests or download predefined points from the we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lehtoan\My Documents\MapperPresentation\bkg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alibri"/>
              </a:rPr>
              <a:t>QtM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6" descr="route1.png"/>
          <p:cNvPicPr/>
          <p:nvPr/>
        </p:nvPicPr>
        <p:blipFill>
          <a:blip r:embed="rId2"/>
          <a:stretch/>
        </p:blipFill>
        <p:spPr>
          <a:xfrm>
            <a:off x="3575160" y="1584360"/>
            <a:ext cx="5111640" cy="3230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300816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You can use selected area´s maps without internet connection by downloading them before your tri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lehtoan\My Documents\MapperPresentation\bkg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QtMap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tMapper is implemented by Linux Course group members to improve skills with Qt and Linux programming and to train new Linux specialists for the Ixon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57:43Z</dcterms:created>
  <dc:creator>koe</dc:creator>
  <dc:description/>
  <dc:language>en-US</dc:language>
  <cp:lastModifiedBy>koe</cp:lastModifiedBy>
  <dcterms:modified xsi:type="dcterms:W3CDTF">2008-11-11T10:23:59Z</dcterms:modified>
  <cp:revision>35</cp:revision>
  <dc:subject/>
  <dc:title>QtMapper</dc:title>
</cp:coreProperties>
</file>