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F956-7374-4776-9017-68B8E77D7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530E-2B73-47D4-9DB7-27D1F5091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3F2A-5337-428C-BC59-34F71DCE8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A3AF-284D-4573-B73B-1BE9E9C88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46FA-DF77-4342-8E9D-1B0D32C9C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618B-EBEE-443A-9312-E5D5074A3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13A3-0112-4A1D-9A1A-1053A5AC9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B647-AE0D-411F-AC1E-7E79914FB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3CED-C9AC-49C8-B63F-DA84F403E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ED2F-2B07-4C11-8DF7-79CE191E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0F43-9712-4742-942E-6994FB97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DECD-3734-4416-AA84-AE0CA531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5B6FC7-59BE-41B4-99F3-EC15326696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13D7EA-5984-4181-8A02-3E01B03119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yslideshare is working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abh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abhu@prabhu-s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0T02:01:07Z</dcterms:created>
  <dc:creator>Prabhu</dc:creator>
  <dc:description/>
  <dc:language>en-US</dc:language>
  <cp:lastModifiedBy>Prabhu</cp:lastModifiedBy>
  <dcterms:modified xsi:type="dcterms:W3CDTF">2008-05-30T02:02:00Z</dcterms:modified>
  <cp:revision>1</cp:revision>
  <dc:subject/>
  <dc:title>Pyslideshare is working!</dc:title>
</cp:coreProperties>
</file>